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9C2A-23DD-4C93-A0AD-A8E8002075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C2CE-0DC1-437F-906B-F2AFEAACA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C34B-4A5F-4F8B-96A9-74C1019BE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8708-6465-4C5F-B225-53689D61C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8C59-00C7-4388-B1D8-CA059ABEC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7A7A-266B-49E1-BAD9-B36039041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4E36-3A5F-4312-B654-E59E56975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7B27-9F6A-454A-A569-EE95E6727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1B37-660F-4673-8A11-5F7707C848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3361-66DF-4284-BEE2-57E29CE753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6470-DDC5-4E08-AB36-D0CB87911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C3E0-2825-4A30-84C2-433082F6A9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3663-AF6D-464C-84AB-EC1B2E560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6EBC-697F-4BAE-A351-929458A6E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317B-291A-4B2B-9BB7-F25657508C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EAF2-A6E5-4200-823A-3684BB3FF4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D68E-753A-4399-B17F-EA83F663FD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8D7A-F514-4A9D-8F68-122AF65EF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9EE3-0A7C-4CC7-A8A2-6EC26740C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6E43-6E40-43FE-8D6A-44CF445D00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B40E-8B37-4789-8A16-40F74EAC2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F74F-983E-43E5-AC77-E6CB6BD8F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B52F-E395-4B0D-9728-021E935DC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9756-1B5B-4A3D-B7DE-17647CB10D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B617-6502-4404-871E-F78A42986B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84DD-252B-4E55-83E9-2AA30896E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DDAC-773E-40A8-8F5E-05DEE31A4A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8CB5-9709-4336-B7D4-EB899CC65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BC7A-3C6A-432F-BEE8-D907A4A283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77E1-9EC3-4D6C-8430-13B1B7F52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ED77-9D7E-4100-939C-13D9405AE3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506E-832F-4E1F-A64D-EED4BE8582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3F26-7293-4F43-A863-F459B78D9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58F6-805E-4F11-95FB-60BE34271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7BDB-85EA-4B08-8241-FF83E0F0E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B276-E5D6-4CA0-A558-7EF8DE84BF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125-9518-4148-B586-D90C3F88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88C-BB04-476E-AFAA-77DAFA92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2B1D2-459A-4979-BF7D-93462979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CA265-FB98-4AFF-B70F-5137E9C3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3B0F6-4537-4873-B56E-3F65AAF7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CE437-F48B-49A3-A51E-86F61018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91FFB-EF4C-45B2-8130-CF04200A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F6E32-EE1D-43B1-9024-8F9F4696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98575-1AD8-4F4C-883A-CD5CDCFE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8ED16-012F-4F06-803B-0480FE6F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D5897-8C5F-40B9-A7B6-5AC1BC84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7079F-C67A-44D7-8B5E-BA3CA2E6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6F0-55B2-4031-A64F-BCAC6035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6F6C3-5458-4392-B5CD-7EB6F15D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8B26C-9031-42C7-9AC0-C457ACC5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51A1C-DC99-46AB-B6D3-F799B83B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A9A57-7993-445F-8C10-8B77EC19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FA899-8E57-4494-9A0A-AFD61970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5251A-DE4E-4E6E-B7F9-E2F3DC1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6830C-A46A-4685-A38F-559E13B0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A0317-CDE9-4B97-A0EF-1D0EC2D3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27ED0-C855-4BCA-871B-E9289A9A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A8D48-8E62-4A6B-A2AC-CD9071AC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4CF-B35B-4506-A7FB-FC34B5E0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47E40-2C31-4F8F-89AB-6F12FF99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074D9-CF3F-4209-B4EC-675BEF6D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B60AF-3818-456C-AED5-F57CF44D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8E43C-250B-4FCC-B6A0-DEC89542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38199-EF0D-4ABB-86A2-FBAF66C6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841AE-AD1E-4547-8C54-BD5BBF04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E13FC-7AC0-466E-971A-6877C111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ADD0A-BB88-4711-9D4F-6E999349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73A8A-3360-4519-AD77-B7D50518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ED9D1-1D4A-4C4C-8341-F78E436F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664C-2C1D-4677-BEC5-D3F3C5F5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EF97D-FC55-471F-A23F-C2822ADE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1F283-62A1-46D1-BCBA-28D34998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F469F-4A6F-4681-8AC4-8042860D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B6C77-3342-42F8-84AF-1072826A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36974-1347-43A9-AD02-FE00700A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5A05B-6E1A-41D3-B6CA-AD3C850F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0FE2B-7ECF-43D3-9C26-86956244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405C1-9ACE-4526-B6A4-9CAF7D26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BE031-B793-457D-BB5E-AC4B78BD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F42C4-D594-419F-9203-07A60156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11D3-771A-43F0-A14C-D0B1D6EA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4CFDB-0A2D-465F-AB1E-1436ABB1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842D1-9F66-4B58-A140-91D1AD94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7F3EB-266F-4F36-B118-BADD1AED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812CA-7901-4EAD-891B-70B29EEA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A18CF-8530-4C0C-8864-DA09812C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2793-D75D-4E95-AAAA-48BD8F6A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DB4C-B0DC-474F-A441-5ED07B34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2665-4CD7-4BEA-AA3C-AEAEF257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1780-C223-4EA9-B4DF-8EF78DED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FA47-BFA9-4CEB-A835-6AEFD024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F43-B41D-46DE-9550-662EEDD8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745A-CE97-45A5-8DBB-66D29755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736F-0199-4FEA-976A-0F059798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A329-8438-4192-ABEA-A27E4EEA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F953-477C-4976-A27A-1DAF1175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A35B-FA1F-4627-8329-E1FECA15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F933-2D65-4C5C-A65F-2A6D167B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A66E-54E5-4E07-9292-CD9F2E8E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3274-3E13-49B3-8B0A-E28C7C93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E34E0-B102-472F-8211-C0F66A74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7773-D706-4337-B77B-EC7D195B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7FB-23E2-4E4F-A628-1CC7B0B9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4E70-9384-4D3F-B31A-BEFEE711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DC88-85C4-4376-89F4-9786FFC5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950DB-E88C-4759-82B1-F2EF85C9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037A-0DA4-4CB8-B9F7-4C0AE75C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DC7A-5157-4467-AADB-A4D7DE94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A736-E791-484B-A090-2BC6D6BE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A2633-4F15-4D83-BA49-D764CCF6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6FE71-C765-485C-B458-0E107767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229E-D7BE-4DA3-B6B6-6C70CE2D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FFCAE-C017-44DD-9C5A-54833AB1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3EC-F532-448D-902D-1051B970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E39B-08FD-479D-9021-2E772C01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C349-70DE-4453-91C1-19476EFB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683CF-54A6-48DA-B01B-53656B86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AB9B-9BA5-4363-97D5-2DA7DEB0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9BC1-4151-4BDE-8D7F-C6A1EB2E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D6C85-4490-4EC1-8C09-4F191B1F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22ACA-D75B-47ED-BC1B-24CB0161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6FA3-D4C6-4F35-97C0-D8CD73CC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3BA2E-40C2-47ED-84E2-4D518398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933C1-4604-40E2-8A8F-F9F1EB37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36B-02BF-487A-BADC-7797948F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8AF74-30AA-446D-8BED-EEEB15D2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BD1E2-5A07-4F0F-BB1B-30CA72A3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BC55A-08DE-4F83-B84A-1AE8614C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D21A7-F1F4-476A-BB34-5E6CFF1D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8363F-44E3-4821-A6D8-8E5B816B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4F0FA-3272-4F29-8D23-4EA37962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89585-2333-4701-A0A9-BE9C8C63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9C548-4CF1-483D-A674-B62ECAA1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A9931-A188-46AF-9E63-334B6295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D08D4-FC45-42AB-A8FC-96BE7014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79E-276C-4816-B9ED-9E5FF0D0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8296E-148D-4CF8-AC6B-CF787E18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32BFB-4451-405E-A0FC-4090A0AB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56C81-9074-45AC-A625-8A113EE4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2AA4B-14B9-4350-86EA-B03BB19C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3ECC8-87E0-4FA6-9B0F-17C23132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CC0AD-C203-4BBC-8DCB-EE290ACE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35AA1-8D0C-4972-B1B3-0972512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15CE7-29C2-454E-AB11-4F707CCC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74BBC-BA6E-4396-9EE8-F291AC38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BCCBD-72AB-4504-8921-38055460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FF6-4CAA-4C85-8D66-D91F6CC4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A1DF6-F8C5-43AC-A23C-449F2190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D0870-E421-4A4F-8DC4-2665AB07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41E15-E952-4E9D-9DD7-6792EF09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D15FE-F068-459C-B558-B4CB80C6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6F614-8DC4-4F33-BA63-588ABDA7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4D567-3120-4253-86A3-99B8CE0A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B6691-1978-4E27-A20D-E6F2738F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0C21C-E2F1-4F34-A6AC-FB57D249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0F31F-F1CD-4C79-B16E-E640AC9B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DC11E-31D2-42FC-9A12-BD39F922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2EE-8C5C-4365-BCAD-7E667F51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9337C-F805-4032-B689-ABA38E01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B15F1-080B-4D6D-A8C8-7932035B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F2754-82CF-45F1-AB0D-0D143A68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6EC13-F334-4BD3-A1F9-2AEEAE0F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8957C-F4A0-4253-843F-3CE6091C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503E1-AB0E-4288-A5C8-1ED3201E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3F572-B8AE-4BE5-82F2-4A7A5C0E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2194A-AFCD-4AA1-A4DF-FBA49A03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A5EE0-72C2-4885-A55E-17003191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82AD4-F9D8-453A-B3EC-9FB7A9DB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186-284C-42F7-98A9-5D37B2E8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E15B9-A224-47BE-977B-AEA88B62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35973-4136-47C9-BE68-017853DF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10EF8-8FCA-4E3E-A1E3-91BCD7AC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1F0F6-B09C-43FE-AFBA-F1BF169D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069EC-CF19-4301-A98C-6586FAF6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8DD60-9447-4665-BB6B-4974D19D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039FB-93D5-4A5B-83DB-A1ADB186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09A8A-5594-450B-AA7B-E7619B77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93384-B6CB-42AA-BBDA-F8613683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05B5F-080E-4BD3-8605-1FD59090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118B61-0872-4EB8-ADC6-DE3BCCD541D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F4E8-150B-4AB8-847C-8E01BD09D3B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E941-6016-434F-A006-F5619229AF6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1912-D5B2-4D25-921F-0AAC802DA53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79AB-3C7A-46BF-8305-F937411E3AF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ED62-EA4A-4458-8230-0A0DB30F7B0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D4D1-09BE-4BA0-982C-133BB18566D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68CF-F7F0-44F1-B039-16475EC0B47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A8E9-AFB0-4A7D-BEDB-9FE1D856F0F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1C0A-0A4D-4F1C-8ACE-7D8602C947A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0EF8-6142-4C40-A012-0A3711E4901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71EA-4AA8-4164-802B-4BE88D6EAC2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500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12"/>
          <p:cNvSpPr/>
          <p:nvPr/>
        </p:nvSpPr>
        <p:spPr>
          <a:xfrm>
            <a:off x="728640" y="21798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3"/>
          <p:cNvSpPr/>
          <p:nvPr/>
        </p:nvSpPr>
        <p:spPr>
          <a:xfrm>
            <a:off x="830160" y="220500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оды целеполагания и планирования времени в проектной деятк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7667640" y="5373720"/>
            <a:ext cx="1146240" cy="120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58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95040" y="1628640"/>
            <a:ext cx="88693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ориентированная (творческая). Люди этой группы строят жизнь сами, по течению не плывут. Часто это предприниматели, руководители, специалисты высокого класса и успешные люди с мудростью и опытом. Быть одним из них многим недостаточно, они стремятся к безусловному лидерству в интересующей их области. Обладая твердым характером, лидеры твердо идут к  достижению результатов и не жалуются на возникающие при этом проблемы. Они склонны к созиданию ради максимального комф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59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ц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жидаемый вариант будущих соб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ретный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аемый исход соб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60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ов М.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ниге «Оценка деятельности и система управления компанией на основе KPI» дается такое 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полагание - первичная фаза управления, предусматривающая постановку генеральной цели и совокупности целей (дерева целей) в соответствии с назначением (миссией) системы, стратегическими установками и характером решаемых зада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61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ципы планирования време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844640"/>
            <a:ext cx="85075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сознанная и объективная потреб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овокупность осознанных потребностей. Мотивация определяет совокупность осознанных потребностей человека. Но в процессе жизни люди приобретают  множество различных запросов, система становится сложной и противоречивой и осознанной лишь частично. Данный феномен называется борьба мотивов, когда имеющиеся у человека мотивы начинают конкурировать друг с другом, выстраиваясь в иерархию. Наиболее значимый, оказавшийся наверху лестницы, и будет являться цел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62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Чёткое понимать, чего хочешь достичь. Любая мечта достижима, если мы деоаем что-то для ее исполнения, иначе она превращается в фантаз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Наибольшая степень субъективной вероятности. Цель выбирается с помощью внутренних средств прогнозирования.  Постановка осуществляется через выбор некоего события, обладающего большей  степенью субъективной вероя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63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Цель не равна прогнозу! Между изначальной целью, субъективным прогнозом и реально достигнутым результатом всегда будут расхо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ы должны представлять общий образ Цели. Результат и потребляемые ресурсы необходимо  фиксировать в виде шагов, которые заран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ируются. В этом заключается суть  планирования как часть функции целеполаг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64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15680" y="1844640"/>
            <a:ext cx="8248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Планирование необходимо корректировать!  Погрешности вероят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Конкретная цель усиливает мотивацию. В психологии - Градиент Цели: чем ближе достижение результата, тем сильнее мотивация и выше уровень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Сильная мотивация  меняет ожидания от возможного результ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65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уровня цел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ив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повседневные и быстр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яемые задачи, подчиняющиеся более крупным тактическим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ям, являясь их конкретизирующим воплощ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т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пираются на стратегические направления, конкретизируя их ценностные компоненты. Фактически представляю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ой пошаговые действия для выполнения общей стратеги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66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тег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апы, определяющ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зненный путь человека или прогресс группы люд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тегические  цели самые значимые. Определяют деятельность крупных комп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456840" y="549360"/>
            <a:ext cx="82868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еполагание – это и творческий и аналитический процесс. Но несмотря на это, ему можно научить любого. Тренируйтесь и все получи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становки целей необходимо разбираться не только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ственных мотивах и ценностях, но и в мотивах команды, с которой придется работ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важно тренировать логическое мышление, а это МАТЕМА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679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715680" y="1600200"/>
            <a:ext cx="79693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–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р бог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.. данный человеку, чтобы он использовал его… ради человеческого прогр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.Манн. Волшебная го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512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56840" y="549360"/>
            <a:ext cx="82868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еполагание – это процесс выбора одной или нескольких целей с установлением определенных требований к 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686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ая структура дея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еполаг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11280" y="1600200"/>
            <a:ext cx="8074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еполагание – это процесс осознания своих целей, анализа потребностей, проблем и возможностей и представление образа желаемого буду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аком случае запускается процесс планирования достижения цели и набор конкретных действ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696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702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и целеполаг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711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и целеполаг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" descr=""/>
          <p:cNvPicPr/>
          <p:nvPr/>
        </p:nvPicPr>
        <p:blipFill>
          <a:blip r:embed="rId1"/>
          <a:srcRect l="7467" t="9052" r="7474" b="9052"/>
          <a:stretch/>
        </p:blipFill>
        <p:spPr>
          <a:xfrm>
            <a:off x="-3240" y="128520"/>
            <a:ext cx="914724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722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Брайана Трейс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правляй своим временем и удвой результаты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ть 10 целей на ближайший год так, как если бы они уже были достиг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всех выписанных целей выбрать самую важную, которая может реально изменить вашу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ть ее на другом листе бум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работать по методу SM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732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Г. Архангель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кая формулировка цели в меняющихся условия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д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“рамки” своей цели: четкие ценности, система приоритетов, сферы жизни под влиянием этих ценностей, закономерности влияния ценностей на сферы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ретизация цели так, чтобы она не входила в противоречие с ценностями и жизненными принци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742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и распределяются по уровням достижения, текущие задачи сравниваются с ценностями. В СМАРТ-технологии все наоборот: цель разбивается на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временного диапазона для достижения результата специально под ц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делятся на “мягкие” и “жесткие”. Мягкие – учет контекста, выполнение в назначенное время (неделя, месяц). Жесткие – запланированные к определенной да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рево ц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Объект 4" descr=""/>
          <p:cNvPicPr/>
          <p:nvPr/>
        </p:nvPicPr>
        <p:blipFill>
          <a:blip r:embed="rId1"/>
          <a:stretch/>
        </p:blipFill>
        <p:spPr>
          <a:xfrm>
            <a:off x="-3240" y="2060640"/>
            <a:ext cx="9085320" cy="3292560"/>
          </a:xfrm>
          <a:prstGeom prst="rect">
            <a:avLst/>
          </a:prstGeom>
          <a:ln w="0">
            <a:noFill/>
          </a:ln>
        </p:spPr>
      </p:pic>
      <p:sp>
        <p:nvSpPr>
          <p:cNvPr id="753" name="Прямоугольник 5"/>
          <p:cNvSpPr/>
          <p:nvPr/>
        </p:nvSpPr>
        <p:spPr>
          <a:xfrm>
            <a:off x="3924360" y="1700280"/>
            <a:ext cx="1008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457200" y="333000"/>
            <a:ext cx="8228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NewRomanPSMT"/>
              </a:rPr>
              <a:t>ГЦ</a:t>
            </a:r>
            <a:r>
              <a:rPr b="0" lang="ru-RU" sz="2200" spc="-1" strike="noStrike">
                <a:solidFill>
                  <a:srgbClr val="000000"/>
                </a:solidFill>
                <a:latin typeface="TimesNewRomanPSMT"/>
              </a:rPr>
              <a:t> - формулировка конечной целевой установки того, что планировалось достичь в проек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NewRomanPSMT"/>
              </a:rPr>
              <a:t>Второй уровень </a:t>
            </a:r>
            <a:r>
              <a:rPr b="0" lang="ru-RU" sz="2200" spc="-1" strike="noStrike">
                <a:solidFill>
                  <a:srgbClr val="000000"/>
                </a:solidFill>
                <a:latin typeface="TimesNewRomanPSMT"/>
              </a:rPr>
              <a:t>— это уровень общих целей (на рис. 2.1 обозначены как 1 и 2), которые представляют собой основные направления деятельности. Это то, на что направлены действия проектан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NewRomanPSMT"/>
              </a:rPr>
              <a:t>Третий уровень </a:t>
            </a:r>
            <a:r>
              <a:rPr b="0" lang="ru-RU" sz="2200" spc="-1" strike="noStrike">
                <a:solidFill>
                  <a:srgbClr val="000000"/>
                </a:solidFill>
                <a:latin typeface="TimesNewRomanPSMT"/>
              </a:rPr>
              <a:t>— уровень специфических целей (на рис. 2.1 обозначены как 1.1, 1.2 и 2.1, 2.2), которые представляют собой основные формы работ и обеспечивают основные направления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NewRomanPSMT"/>
              </a:rPr>
              <a:t>Четвертый уровень </a:t>
            </a:r>
            <a:r>
              <a:rPr b="0" lang="ru-RU" sz="2200" spc="-1" strike="noStrike">
                <a:solidFill>
                  <a:srgbClr val="000000"/>
                </a:solidFill>
                <a:latin typeface="TimesNewRomanPSMT"/>
              </a:rPr>
              <a:t>— уровень конкретных задач проекта (на рис. 2.1 обозначены 1.1.1, 1.1.2, 1.2.1, 1.2.2 и т. д. соответственно), представляющих собой те конкретные работы проекта, которые, будучи выполнены в установленные сроки, определенным способом, с запланированным результатом, приведут в конечном счете к выполнению ГЦ 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51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Rectangle 12"/>
          <p:cNvSpPr/>
          <p:nvPr/>
        </p:nvSpPr>
        <p:spPr>
          <a:xfrm>
            <a:off x="900000" y="189000"/>
            <a:ext cx="8244000" cy="100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971640" y="246240"/>
            <a:ext cx="8229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айт Дэвид Эйзенхауэр (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wight David Eisenhower) - 34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й президент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2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90544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Объект 3" descr=""/>
          <p:cNvPicPr/>
          <p:nvPr/>
        </p:nvPicPr>
        <p:blipFill>
          <a:blip r:embed="rId1"/>
          <a:stretch/>
        </p:blipFill>
        <p:spPr>
          <a:xfrm>
            <a:off x="154080" y="1197000"/>
            <a:ext cx="88358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ецификация цели </a:t>
            </a:r>
            <a:r>
              <a:rPr b="0" lang="ru-RU" sz="3200" spc="-1" strike="noStrike">
                <a:solidFill>
                  <a:srgbClr val="333333"/>
                </a:solidFill>
                <a:latin typeface="YS Text"/>
              </a:rPr>
              <a:t>Роберта Дилт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324000" y="907920"/>
          <a:ext cx="8135640" cy="5761080"/>
        </p:xfrm>
        <a:graphic>
          <a:graphicData uri="http://schemas.openxmlformats.org/drawingml/2006/table">
            <a:tbl>
              <a:tblPr/>
              <a:tblGrid>
                <a:gridCol w="5760720"/>
                <a:gridCol w="2374920"/>
              </a:tblGrid>
              <a:tr h="16462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Цель сформулирована утвердитель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го вы хотите (вместо того, чего вы больше НЕ хотите)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едите за словами, означающими отрицание (не, прекратить, удалить, без -, чтобы не, и др.). Отрицание существует в языке, но не в опы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относится к Вам, находится под Вашим личным контрол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лично Вы можете сдела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 Убедитесь, что процесс реализации действительно находится под Вашим личным контролем и зависит только от В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сформулирована сенсор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конкретно вы будете видеть, слышать и чувствовать в результате достижения своей цели?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лучите сенсорно обоснованные описания или поведенческую демонстрацию, которые позволят узнать цель, когда она будет достигну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находится в нужном контекс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, когда и с кем вы хотите реализовать? Сможете ли вы договориться с этими людьми? Что для этого над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8" name=""/>
          <p:cNvGraphicFramePr/>
          <p:nvPr/>
        </p:nvGraphicFramePr>
        <p:xfrm>
          <a:off x="395280" y="115920"/>
          <a:ext cx="8424720" cy="6453000"/>
        </p:xfrm>
        <a:graphic>
          <a:graphicData uri="http://schemas.openxmlformats.org/drawingml/2006/table">
            <a:tbl>
              <a:tblPr/>
              <a:tblGrid>
                <a:gridCol w="6006960"/>
                <a:gridCol w="2417760"/>
              </a:tblGrid>
              <a:tr h="82404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изация цели экологична для вашей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желаемый результат повлияет на вас и вашу жизнь?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Здесь можно найти неосознанную мотивацию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бран соответствующий масштаб обобщ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ли цель слишком глобальна, выделите для начала один ее меньший компонент и работайте с ни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Вас есть доступ к необходимым ресурс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ие ресурсы Вам нужны для достижения цели? Можете ли Вы иметь к ним доступ? Как получить к ним доступ уже сейчас?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е ресурсы (внутренние и внешние), которые нужно задействовать для реализации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следования возможных препятствий на пути к достижению це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мешает Вам запустить процесс достижения цели прямо сейчас? Какие препятствия могут встретиться на Вашем пути? Что Вы можете сделать? Какие ресурсы вам нужны для преодоления этих препятстви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920"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Подстройка к будущему (первые шаги)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е самые маленькие, первые шаги, с которых Вы начнете процесс реализации Вашей цели, а также место и время, когда Вы сделаете эти шаг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760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12"/>
          <p:cNvSpPr/>
          <p:nvPr/>
        </p:nvSpPr>
        <p:spPr>
          <a:xfrm>
            <a:off x="728640" y="21798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830160" y="220500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йндмэппинг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раммы для проек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-204840" y="115920"/>
            <a:ext cx="936144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772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indMeister - это онлайн-инструмент для майндмэппинга, редактор интеллект-карт для мозгового штурма, создания заметок, планирования проектов. Интегрируется с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isterTas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isterTas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гибкий инструмент для управления проект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782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ke - Облачный сервис для ведения проектов (только онлайн!): поможет планировать, расставлять приоритеты по задачам, строить диаграмму Ганта и распределять нагруз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S Projec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остаточно сложное программное обеспечение для управления проектами: планирование, диаграмма Ганта, распределение и анализ ресурсов, отчеты и сметы, может находить и перераспределять перегруженные работой бл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792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Rectangle 12"/>
          <p:cNvSpPr/>
          <p:nvPr/>
        </p:nvSpPr>
        <p:spPr>
          <a:xfrm>
            <a:off x="857160" y="404640"/>
            <a:ext cx="8244000" cy="1440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indwar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рограмма автоматически планирует задачи на основе приоритетов, предупреждает о дедлайнах, составляет отч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lowl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есть ментальные карты и считать бюджет, создать базу знаний для программистов и тестировщиков, чтобы они могли искать решения похожих задач по т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801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orksect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 систематизирует всю работу по проектам. Подходит для планирования, декомпозиции и контроля задач. Доступны все необходимые для проектирования функции: совместная работа, тайм-трекинг, диаграмма Га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1"/>
          <a:srcRect l="0" t="5284" r="0" b="0"/>
          <a:stretch/>
        </p:blipFill>
        <p:spPr>
          <a:xfrm>
            <a:off x="250920" y="0"/>
            <a:ext cx="84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52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чем су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дела записать в первый квадрат и каждый день по 12 часов работать над ними. И конечно ничего не успевать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ш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йзенхвуэр был очень занятой человек, поэтому разработал не просто систему управления временем, а систему диагно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813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ология управления проекта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6840" y="1599840"/>
            <a:ext cx="8591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AGILE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– гибкая система управления проекта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 принципам Agile относятся следующие приоритет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людей и коммуникации между ними над процессами и инструмент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аботающего продукта над исчерпывающей документаци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заимодействия с клиентом над заранее согласованным ТЗ (контрактом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●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готовности к изменениям над строгим соблюдением пла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823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Waterfall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56840" y="1600200"/>
            <a:ext cx="85914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аскадная, или водопадная разработка, в основе которой лежит принцип последовательного и четкого соблюдения заранее разработанного план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 таком подходе каждый шаг предварительно продуман и зафиксирован, поэтому обычно он применяется в тех проектах, где влияние непредусмотренных факторов минимально или отсутствует вов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Типичная схема каскадной разработк выглядит следующим образом: аналитика – проектирование – разработка – тестирование – эксплуатация и поддерж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833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12"/>
          <p:cNvSpPr/>
          <p:nvPr/>
        </p:nvSpPr>
        <p:spPr>
          <a:xfrm>
            <a:off x="900000" y="189000"/>
            <a:ext cx="8244000" cy="115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3"/>
          <p:cNvSpPr/>
          <p:nvPr/>
        </p:nvSpPr>
        <p:spPr>
          <a:xfrm>
            <a:off x="971640" y="246240"/>
            <a:ext cx="82296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нцип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426960" y="1398240"/>
            <a:ext cx="855504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ка осуществляется в точном соответствии с заранее составленным техническим зада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бота выполняется последовательно, без пропущенных и неоконченных этап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внесении клиентом новых требований после согласования проекта полностью переделывается техническое зад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ка представляет собой непрерывный и общий процесс без итер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явление и исправление ошибок осуществляется только на стадии тест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чики не взаимодействуют с клиентом после составления и согласования технического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843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Kanb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6840" y="1600200"/>
            <a:ext cx="85914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основу данной системы положен принцип «точно в срок», заключающийся в  организованном выполнении производственных операций в назначенное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няется чаще в небольших коллективах, она позволяет равномерно распределить обязанности между сотрудниками и сделать процесс разработки максимально прозрач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853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Основные принцип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599840"/>
            <a:ext cx="840096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ора на имеющиеся методы разработки и стимулирование дополнительных изменений в н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варительная договоренность о важных изменени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ощрение небольших и эволюционных перемен в производственных процесс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еткое соблюдение и уважение существующих ролей и обязанностей, но с поощрением инициативы каждого разработч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863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c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599840"/>
            <a:ext cx="840096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это подход при котором процесс разбивается на спринты – короткие периоды, в течение которых разработчики должны создать готовую часть (инкремент) продукта и продемонстрировать его клиенту на специальном совещании, чтобы получить обратную связ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873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Основные принцип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52480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заказчик должен получить готовый работающий продукт в максимально короткие сро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азработка строится на активном взаимодействии членов команды, каждый из которых стремится к общей цел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заказчик и пользователи являются неотъемлемой частью команды и активно участвуют в работ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тестирование осуществляется в конце каждого спринта (итерации) для более гибкой и оперативной коррекции ошибо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53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вас не должно быть таких важных дел, от которых зависит жизнь или смер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если первый квадрат забит до упора и там есть дела, которые нужно сделать еще вчера, то ЧТО-ТО МЕШЕАЕТ ВАШЕЙ ПРОДУКТИВНОЙ РАБО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54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мение расставлять приорит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самодисципл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проблемы приводят к авралам, что ведет 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сихическим и физическим расстройств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55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нольд Шварценеггер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 сутках 24 часа. Организуйте свой день и пашите! Меня сводит с ума, когда люди говорят, что им не хватает времени, чтобы хотя б сходить в зал. На тренировку всего в 45 минут. Представьте, что вы всего час в день будете читать, например историю. Сколько вы узнаете за 365 дней! Меня по настоящему бесит, когда люди говорят, что у них нет времени. В сутках 24 часа. Вы спите 6 часов в день, Вон кто-то крутит головой и говорит, что спит по 8 чаов. Тогда спи быстрее! Итак, остается 18 часов. Обычный человек работает 8-10 часов. Пусть на дорогу уходит 2 часа в день. И все еще остается 6 часов. Что вы делаете эти 6 часов? Немного тратите на еду, немного на общение с окружающими. Но вы видите, сколько вам доступно времени, если вы организуете свой день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56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полагание в проект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У кого есть «Зачем», тот выдержит почти любое «Как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Ф.Ницше «Так говорил заратустра. Книга для всех и ни для кого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5"/>
          <p:cNvGrpSpPr/>
          <p:nvPr/>
        </p:nvGrpSpPr>
        <p:grpSpPr>
          <a:xfrm>
            <a:off x="28440" y="-19080"/>
            <a:ext cx="1231920" cy="11418840"/>
            <a:chOff x="28440" y="-19080"/>
            <a:chExt cx="1231920" cy="11418840"/>
          </a:xfrm>
        </p:grpSpPr>
        <p:sp>
          <p:nvSpPr>
            <p:cNvPr id="578" name="Freeform 6"/>
            <p:cNvSpPr/>
            <p:nvPr/>
          </p:nvSpPr>
          <p:spPr>
            <a:xfrm>
              <a:off x="1620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"/>
            <p:cNvSpPr/>
            <p:nvPr/>
          </p:nvSpPr>
          <p:spPr>
            <a:xfrm>
              <a:off x="284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8"/>
            <p:cNvSpPr/>
            <p:nvPr/>
          </p:nvSpPr>
          <p:spPr>
            <a:xfrm>
              <a:off x="39996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9"/>
            <p:cNvSpPr/>
            <p:nvPr/>
          </p:nvSpPr>
          <p:spPr>
            <a:xfrm>
              <a:off x="28584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0"/>
            <p:cNvSpPr/>
            <p:nvPr/>
          </p:nvSpPr>
          <p:spPr>
            <a:xfrm>
              <a:off x="95400" y="-19080"/>
              <a:ext cx="860400" cy="11418840"/>
            </a:xfrm>
            <a:custGeom>
              <a:avLst/>
              <a:gdLst/>
              <a:ahLst/>
              <a:rect l="l" t="t" r="r" b="b"/>
              <a:pathLst>
                <a:path w="938672" h="10380482">
                  <a:moveTo>
                    <a:pt x="209" y="0"/>
                  </a:moveTo>
                  <a:cubicBezTo>
                    <a:pt x="108493" y="144379"/>
                    <a:pt x="216778" y="288758"/>
                    <a:pt x="216778" y="529390"/>
                  </a:cubicBezTo>
                  <a:cubicBezTo>
                    <a:pt x="216778" y="770022"/>
                    <a:pt x="-7812" y="1126959"/>
                    <a:pt x="209" y="1443790"/>
                  </a:cubicBezTo>
                  <a:cubicBezTo>
                    <a:pt x="8230" y="1760621"/>
                    <a:pt x="260894" y="2041358"/>
                    <a:pt x="264904" y="2430379"/>
                  </a:cubicBezTo>
                  <a:cubicBezTo>
                    <a:pt x="268915" y="2819400"/>
                    <a:pt x="-27865" y="3348790"/>
                    <a:pt x="24272" y="3777916"/>
                  </a:cubicBezTo>
                  <a:cubicBezTo>
                    <a:pt x="76409" y="4207042"/>
                    <a:pt x="561683" y="4467727"/>
                    <a:pt x="577725" y="5005137"/>
                  </a:cubicBezTo>
                  <a:cubicBezTo>
                    <a:pt x="593767" y="5542548"/>
                    <a:pt x="116514" y="6509084"/>
                    <a:pt x="120525" y="7002379"/>
                  </a:cubicBezTo>
                  <a:cubicBezTo>
                    <a:pt x="124536" y="7495674"/>
                    <a:pt x="573714" y="7579895"/>
                    <a:pt x="601788" y="7964905"/>
                  </a:cubicBezTo>
                  <a:cubicBezTo>
                    <a:pt x="629862" y="8349915"/>
                    <a:pt x="252872" y="8935453"/>
                    <a:pt x="288967" y="9312442"/>
                  </a:cubicBezTo>
                  <a:cubicBezTo>
                    <a:pt x="325062" y="9689431"/>
                    <a:pt x="710073" y="10050379"/>
                    <a:pt x="818357" y="10226842"/>
                  </a:cubicBezTo>
                  <a:cubicBezTo>
                    <a:pt x="926641" y="10403305"/>
                    <a:pt x="932656" y="10387263"/>
                    <a:pt x="938672" y="1037122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12"/>
          <p:cNvSpPr/>
          <p:nvPr/>
        </p:nvSpPr>
        <p:spPr>
          <a:xfrm>
            <a:off x="900000" y="189000"/>
            <a:ext cx="8244000" cy="1439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971640" y="24624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ль жизни  поведения у каждого индивидуален. Все модели поведения можно разделить на следующие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пособленческая (адаптивная). Эти люди  плывут по течению, подчиняются окружающим реалиям, не стараются что-то кардинально поменять или улучшить. По характеру чаще всего добры и снисходительны, ценят стабильность и боятся потерь от перемен в жизни. При малейших неприятностях впадают в депрессию или испытывают сильные переживания. Привыкают к существующим условиям, строго выполняют определенные нормы и пр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27T05:51:16Z</dcterms:created>
  <dc:creator>Iren</dc:creator>
  <dc:description/>
  <dc:language>en-US</dc:language>
  <cp:lastModifiedBy>Каирова Ирина Александровна</cp:lastModifiedBy>
  <dcterms:modified xsi:type="dcterms:W3CDTF">2024-02-20T07:18:55Z</dcterms:modified>
  <cp:revision>35</cp:revision>
  <dc:subject/>
  <dc:title>Методы целеполагания и планирования времени в проектной деяткльности</dc:title>
</cp:coreProperties>
</file>